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D281-7178-4B0D-9710-AEC21865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8432-7570-43F5-B138-438C4978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A1765-C73C-4DC5-8711-A54C02E9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C77B3-502E-4BAB-8421-3B787C7D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D3C49-6FD1-4F67-A9B9-B76E6AD5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D7508-54EC-492A-A022-65A70132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25F19-D892-4B2B-B9F3-6FD9B156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149A7-10E7-42AD-8E6B-B8591AF6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D3C17-825F-4690-AFD1-EB845CE3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36BF6-3353-4A1E-B70B-827E07F9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4EE7C-56E9-420F-89D8-4572ABDB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C1545-0E4F-4324-9CF8-5BF74200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7846-7EFC-4160-B530-8CB30E2D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809A2-773F-4191-8350-D1944F45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83E6E-D399-4356-9B1D-3C3240A3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05394-3B55-4B42-B1D4-A16DABDA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7A124-CD76-4FEF-97A1-15BEC2D0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AC006-429E-4746-A2F3-2E47A0EA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27B24-1483-4678-9FF7-4CFCFB35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1289E-3AD9-40F2-9764-D3528B52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91565-D229-4A1D-BCA1-799BF98C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40654-7D95-4B31-9D80-D90AE167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39E54-6383-497D-8808-0C9A4D49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BF20-DFF1-4CEB-BE3F-B5D2F21A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D3F04-80ED-4334-8ED5-2B13459A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B59F1-37D5-43BC-B397-A871C903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C2DCD-AC38-4E58-A7BD-0F320355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FD053-BB95-4B84-B18F-3F89440F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76E2D-D43A-4FA3-AF8D-F471F3C2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6AECC-421B-4E31-8B74-705D803B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E7BB3-598F-4DF8-91A5-9A92F84F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A12CE-004E-4CCC-A1AF-07DEE8EE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9914A-0C43-4BC2-AA28-BFAA1A58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2FC81-7096-4CB8-A240-3DBC0044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E28D-E407-4618-B7EC-A6058809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D45CC-FAD5-4301-A33D-AAE8A5EB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AE7B9-D814-49A2-A4B5-8E86AC9E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66214-9CC3-4EED-8172-047F3E7D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43691-3DD3-4944-BD86-E646ED79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6563F-809B-4DF5-8A01-4D5592FB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18D65-5670-4A73-9AF4-05098A42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010CA-A054-4CA3-AB6E-E74297B5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77A76-AA3F-424D-92B7-B3629067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4216E-F4C2-4B5D-A6D4-A73C9724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FF488-877A-479A-BE90-70B71FD5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023D-6123-4D45-852C-16060529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097DF-D9C3-4169-877D-5EF719CA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BE298-3D2A-4EF2-9ADD-E9C4826B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1DE46-47D0-4762-9F0D-FF6C8069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846FD-FE91-4178-92CA-56A6C22E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0AD61-FF88-4DA0-AE85-07EB5DCE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C7AE1F-5F4C-43D1-B94E-82DF04B8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8AC412-A4FE-4B86-9C64-AF45047C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86C590-85A9-42C9-A5FF-01FBB9D2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C5FB7-B72E-4227-8B20-1A61FA51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39683-2291-4539-88C3-98933FD2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65EF-D558-445E-A22D-28E4C695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DC3DEF-834B-4D95-96D4-E5A51A30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230170-2ED3-4A98-AFB1-6F23795A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244159-74C3-4935-9E60-09656218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7C31D9-6BB3-4F65-8FC6-F5BC82C6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41B711-1195-46CE-BDA4-B04742EE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860A63-644A-4FA3-A4CC-AF1CB648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4E90A7-1D48-4B28-BEDC-44CA9461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99126E-C4EA-499A-87C2-7C576177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595E08-8CE2-44D1-8412-68BBEC39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BA49C3-0AC1-43F4-8EF4-55447334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067F-A57E-4822-AE76-05D128B5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65B2E2-9D98-4E35-8B35-28C9A213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27A91D-EB80-4F4B-8CFA-83FE634F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69C583-D466-4444-802A-6B04AE35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2449D3-0EC8-4C9D-BD1B-8ED215AB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F25781-B32E-4BCF-BDE5-6EFD3694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540574-D855-45BF-B5D9-E47B66C4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30F917-3E42-41C4-8464-90A0DB82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DF6AB9-D528-4A9D-8967-BE5C7797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3826C9-DF20-4AD8-B91F-CA0BA7D2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511C3F-A5E9-485D-B2AE-8D009B0E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8006-3E73-429F-AF0C-5979DC3C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CECF5E-955E-4017-AB05-D96CD118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C4C969-696C-47D5-B006-EE7BD692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27B675-B5F8-4027-9E14-40F5B3B1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EFBACB-FE72-4C9D-A808-04522F6F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021AD5-2480-430F-B2AB-D1C1FAA1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CDDF12-124E-4955-BCB5-ED62F6EB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4F03B1-A798-4AAC-B9F1-3D288229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3609CC-71DF-4B64-B807-1EB49F90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5FB298-D175-466F-8BB7-A6EA6EEC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BD31B5-F5D9-41ED-B4B3-68F88541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AA8D-2205-45A1-86B7-1CC23206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EEE75E-9613-4E9B-8857-E9AA1165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BDE9EA-5D81-4987-AB17-2D3E5D60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88716E-D10B-4963-BF72-B4F2E240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ADE29E-00FA-4F0B-AA22-F66C3276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E41B85-0A39-42B4-BA69-54CBAFB5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A402B3-3348-4E72-B8C1-E7BD1C76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67E921-A0F3-415B-ABDE-3D0B7365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27E0DD-1B57-4E4E-8F9A-42BB59D3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EE89D7-0F0D-4278-BA66-8E8274C8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B75E2F-DF77-4FD4-B7DC-CE2D11DC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022C-8FA9-4C3D-9E38-E6A700A5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BE6B4C-56C9-4D59-AF29-3E656C9E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69A465-4B44-4428-8AE5-8D1772C5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5C8C1C-7C00-469B-87BF-3A40EB8B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786C4E-F3A5-414B-B103-41A4DB3C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BF56E9-A32A-4FB7-9A07-051C466A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17DE83-7EFF-4039-A38C-14FEAE27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C60B2A-37E1-4810-A54E-3F89DF33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CD3014-F507-430E-8188-A6E71E80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ADF585-1456-431B-B50D-CC393CFF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0834C6-3E4D-41DE-89E6-34D6381B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4BEC-B753-4765-B13A-2D88BE6E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6DDE-2E87-4F38-99EB-10980710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6379C3-2A9E-492C-9849-5B788BF8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D44E55-332F-4018-B171-7E2D10FC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F7CDA1-2CE1-4646-826A-3DC8111B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028514-6673-4C97-935A-DBBEF662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696FD4-3EAB-4646-8FBF-8F869046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B4CDC4-D6F7-472C-AE1D-C01D29CE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1E5D69-E042-4272-863D-F804FED5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EC2B5F-CBB8-40F6-B67D-9DCCFC8C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DAC0E1-9DFD-4B3D-9379-4EC0C113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CB8457-1E27-4899-88EA-ED625991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7A85-66C4-4727-832B-9AE75061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7A4147-6B1D-4D88-9636-75902BBB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40D3A9-1257-44FF-A585-11BDAFFC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062831-D346-433A-8632-6DF2483D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AB6D3E-5417-4CBA-8FCA-11769C9B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2E86AB-129A-4665-A5A7-2D8CB4BC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A38A01-9E6A-4EF9-9343-B7BB66AA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0B2FB4-B79D-4CB9-8A51-8D40CC83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E0B57A-349D-465A-A575-39F2BC11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ADEC2B-8F24-4BBD-846F-8DD2FDD4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91E3F8-A070-4CF8-80CC-2258BDD4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DAFD-6908-4374-AD7F-96C4DE86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7B34F2-7C59-4F9F-842D-3F895FF7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366567-1C73-44DE-9EBA-9AFC6939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762DAF-BFD2-4C61-9848-66ED5833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0CF655-AA06-4C4F-9534-D38E8E4A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AE5DAC-E207-4D76-A525-01D42891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EB1C8E-DD23-489F-AB3D-91EA8030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651B94-492A-4DC5-A76F-7699367A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64E8B1-AAB3-41C0-949F-F98CF07E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02F669-D4CE-4D62-96A3-26FCE0B4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CF5D75-131D-48D0-A0B2-B28FCB06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DE6F-E450-4EBC-A6EF-C3D05C39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C21E31-969C-4775-9B7F-C60A5777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2E49B0-34A3-4F71-9B81-9DD2C8DE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130202-E4BF-4416-BA09-D11056AF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ABABC3-66B7-4A5C-BF63-A13474E4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238ADC-C91C-4D90-97EB-065F86DC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622BE0-5C69-409A-B69E-062C0076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DBA567-BD64-4B48-8FB6-FA868841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35AB64-A559-4CCD-A407-DBDB3D43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7EDF16-71A3-4F77-A512-4672C430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1B2CD5-EFAF-4680-A4F4-CF4B64F5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49C8-D342-4606-B4CD-5F8670F2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BAA0C7-049F-49A1-8E2A-8278178B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39E095-DA04-4210-9899-07C657CB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989BB0-7C93-44F1-B297-4F8751C7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125F04-C4D7-4A34-98D2-DD4DFBE7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AFB622-B11B-49F8-AC22-2E5C3FC3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861E57-EA08-4BFC-A0DF-94D99F5F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B6F60E-1BED-4113-A8F0-669FF15F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3C282A-1008-410F-9A0F-95545C21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9F8F13-C618-4805-AED9-844B6F8A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851801-CFEF-437C-ACA8-5E7B771B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1495E-502C-4268-BC71-323A30EC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DD1761-DC81-40A6-827B-75000919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86B528-0393-4B6C-8B68-7D4A8DE0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22F21F-CDCB-4839-9A0B-3E65CE37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D5393-BEC4-42F2-A88E-343FF50C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32A12-95C8-45B5-BA9D-3F569A32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154C0-9D91-4524-9DF1-D8632187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E8EE3-894E-4D1C-AE90-E1B9FC26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3732-C58F-4189-AA9B-648765F2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685F7-0195-45BA-BB65-A90CC117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8A1B0-D2FB-4555-B353-28A865A5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92132-96D0-4685-B2E9-CD9795D0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5A4C7-E458-4DF6-AFD4-31CA7B6E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4E7DB-2B58-468C-A5E0-95A8AADB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C1915-0955-4AA7-BB36-467FFD11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7746E-8B11-4407-96EC-21FAC258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643F8-68BE-4A3C-904E-EA588219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A7FC6-25F4-41C2-B0FC-0E4D465E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9E9EB-5679-494C-B868-9F359478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6A12-37BB-4A52-89A2-A03EEAE5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FD826-D021-4E23-B402-0D23FAFA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952AB-0EB4-446A-8E70-B5DE2D33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71070-87A4-45CF-9D47-D718D1E9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E2170-4569-447E-9303-995A7190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9AC59-49E1-4435-B5C0-952490ED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1DCA8-7BB1-408B-9FA2-0F81C938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9D2A6-F783-47FC-8AA4-97C0590A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75626-2FA3-45DB-9980-A65F552F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F0AF2-426E-4323-81A9-C629B773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A5D5F-08CA-4A1C-BC40-9C1BF0BE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EDBE-7944-42F0-B4B4-2F97B198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4368A-FDDF-48DC-B863-56C13004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67D7F-9BAD-433A-84D2-941460FE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196A7-68E2-4B42-9E07-669A576A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FB575-82D4-4586-8281-823B8CB5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DE4EB-2918-4651-AF84-89F9536C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83EE3-3691-40C9-9A12-0B909E22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3676B-A9DA-4475-A292-3646117C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C5A2A-2CF7-4F0B-836B-F4377844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33F77-8537-49D4-A4CE-270646C4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C17D7-E275-4925-89A9-8B5007BC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5AE2-CE97-4D64-AD35-A5F4A195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246C1-C5B7-4243-8D87-586B31C7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EB0AA-3DB7-44DE-848F-DE2264E0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97FA9-CA06-45ED-8738-06E1307A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EC6EE-0A4A-4780-89E4-04332516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B9F35-1358-4A65-9A12-70B1FD92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01078-85A4-4EA4-945C-AB54C238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1D8C0-DFF5-45A4-81C4-FF8DE91D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DA5DB-0B12-4B15-9968-4A9B433F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55FFF-4213-4076-B019-FAE43C52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081F1-377C-4A37-B754-C5D2B028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411-35F1-40F6-84EB-F441C7A4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93E14-E529-4E0C-9CDC-DC921901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41768-EB85-4CBF-87A0-A038EA69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6912F-FB90-4D11-9ECF-86083F43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4CE68-9D0D-4C6C-B1A8-EFCDD2AC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4200A-2C99-4AF2-9865-F419F72A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7A2A1-12D3-40C6-92E3-FA55C147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D9E65-1E29-454F-BAA2-39B32A6D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E9DE9-CA35-4FA4-8485-C01C3428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2E284-DBBF-4443-A8A1-1747BA87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8E3CC-5D5F-474C-9478-58A27C86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7279-7056-45B9-BEDE-27B95AF8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5C25A-393A-4F26-BBD3-83F26CA7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AA52E-B7FD-48A7-ADF2-CC7EC354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82B9E-1E8B-4AD1-A077-B1A45CF1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5CC21-46B8-430A-A468-1781B1D8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67AFE-7BD9-468C-B94D-07148C73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17079-2F2C-4E61-A05B-AB7A927F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A8FD5-C470-47D9-B9DA-80EBFBA0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13750-B68B-499E-8C4C-37F23D01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0E5EC-0C9E-4F27-A677-FE74BB5E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FAA0A-739D-4969-9D16-364E29D1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0AA7-4F65-4E3F-B369-DA7DD92E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F1403-D623-4D21-92EB-7C03438C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3402F-0145-4147-B686-F5EC6633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D04C8-F7D8-41A3-8594-E48D8B76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6D92C-432A-4019-AA67-EE8D22D1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BD975-6366-42D3-8B43-B799EC80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A8F7A-ACE3-4988-8D1A-80747229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F0728-9E4F-4CB1-8892-1B84B845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18109-D01C-482E-842C-CB9BB75F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175CE-3A0B-47D8-9DA9-B7529380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ECC82-5619-4AAA-B78C-FD995727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6932-8703-40FD-8931-DB8AF69CA5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EAF6-67C5-42C6-9B88-97775B6944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6253-D62B-4C86-A85A-D04BCA6780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B150-63F1-44CC-85DA-686C480C71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12D5-1A01-4D13-9EB1-57868CE9E9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36A6-C6F3-4B97-9F4F-3D65032DA7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A02E-8B92-4746-9921-F092A4D1FB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3E23-7B0A-47AC-BB02-C5E0DC70D1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2742-D1A4-48BB-8111-4AD6F66D81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AFD1-DC8C-4BB5-8F4C-B10688B159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43A8-6F09-4556-A508-4B40BEC7E3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EED5-838D-4D32-B470-FCBD44E6AD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9DDD-2CF8-4C21-9668-041EF28C5C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821A-A493-4E83-982F-9B0C8D4F1E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0A46-AF93-4455-A6EF-FCF8E336A5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348D-8214-4418-B2FF-579992E5F7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8705-60BA-4D18-9659-F39FF0634E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B0A5-7379-4CD4-AB4F-018BB6B9D7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80A6-03E2-4A2C-98D0-6C1EF46DD0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85B0-9A6D-434E-9F31-220C4373B0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999F-72E7-4D15-B62F-8E7770C266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C0AB-31D3-4212-BE74-9576C91D5D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1F42-D72E-4AA2-85D1-0C7775E051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F9C6-DEEA-4B04-B0C9-DDB673A232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9414-1FC8-4766-96BF-A49647ADDC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3D8A-ED9D-4B0C-80D2-D3BCCDBBF7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47F5-739A-4FC6-A612-E39C8EE3C4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28F2-4730-4CF5-814D-18EEFA66A0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02E2-01EA-4AE3-ACCD-D3CC66BF3C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553D-B82D-4ABB-B2AC-34E4E7AAB5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BDC8-F4F3-4826-9F69-30605F58E2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8011-0379-487B-9FDD-D17A691A1B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04AE-0579-45DE-B67E-3F481C2208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ADBA-D244-4765-A692-FCAAA9EFCF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B88A-85C5-49C4-B60A-5BA4E1719F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97EF-0925-4117-B3FB-2D40A3BAD6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1D55-DCB1-42F4-9585-A7EF65AE05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2F42-2492-41C1-A4D2-7034966D2A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CA74-B524-42E4-BFFB-8A41C014A8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F55C-B1DA-43B9-8671-2734C9D10F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533520" y="2995560"/>
            <a:ext cx="80769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69633" descr=""/>
          <p:cNvPicPr/>
          <p:nvPr/>
        </p:nvPicPr>
        <p:blipFill>
          <a:blip r:embed="rId1"/>
          <a:stretch/>
        </p:blipFill>
        <p:spPr>
          <a:xfrm>
            <a:off x="880920" y="1341360"/>
            <a:ext cx="7382160" cy="215280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69634" descr=""/>
          <p:cNvPicPr/>
          <p:nvPr/>
        </p:nvPicPr>
        <p:blipFill>
          <a:blip r:embed="rId2"/>
          <a:stretch/>
        </p:blipFill>
        <p:spPr>
          <a:xfrm>
            <a:off x="228600" y="3666960"/>
            <a:ext cx="8686800" cy="22100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4140360" y="1916280"/>
            <a:ext cx="645840" cy="447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4500720" y="2492280"/>
            <a:ext cx="86328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7308720" y="18446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7093080" y="249228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7"/>
          <a:stretch/>
        </p:blipFill>
        <p:spPr>
          <a:xfrm>
            <a:off x="1763640" y="422100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8"/>
          <a:stretch/>
        </p:blipFill>
        <p:spPr>
          <a:xfrm>
            <a:off x="1763640" y="48830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9"/>
          <a:stretch/>
        </p:blipFill>
        <p:spPr>
          <a:xfrm>
            <a:off x="4745160" y="420696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0"/>
          <a:stretch/>
        </p:blipFill>
        <p:spPr>
          <a:xfrm>
            <a:off x="4745160" y="486900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1"/>
          <a:stretch/>
        </p:blipFill>
        <p:spPr>
          <a:xfrm>
            <a:off x="8056440" y="428004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2"/>
          <a:stretch/>
        </p:blipFill>
        <p:spPr>
          <a:xfrm>
            <a:off x="7885080" y="4913280"/>
            <a:ext cx="863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5200" y="814320"/>
            <a:ext cx="8553600" cy="5229360"/>
          </a:xfrm>
          <a:prstGeom prst="rect">
            <a:avLst/>
          </a:prstGeom>
          <a:ln w="0">
            <a:noFill/>
          </a:ln>
        </p:spPr>
      </p:pic>
      <p:pic>
        <p:nvPicPr>
          <p:cNvPr id="923" name="图片 60429" descr=""/>
          <p:cNvPicPr/>
          <p:nvPr/>
        </p:nvPicPr>
        <p:blipFill>
          <a:blip r:embed="rId2"/>
          <a:stretch/>
        </p:blipFill>
        <p:spPr>
          <a:xfrm>
            <a:off x="1006560" y="3263760"/>
            <a:ext cx="7943760" cy="28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938160" y="2662200"/>
            <a:ext cx="7267680" cy="15336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6531120" y="3500280"/>
            <a:ext cx="504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8373" descr=""/>
          <p:cNvPicPr/>
          <p:nvPr/>
        </p:nvPicPr>
        <p:blipFill>
          <a:blip r:embed="rId1"/>
          <a:stretch/>
        </p:blipFill>
        <p:spPr>
          <a:xfrm>
            <a:off x="471600" y="847800"/>
            <a:ext cx="8200800" cy="5533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6775560" y="5573880"/>
            <a:ext cx="50472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图片 58375" descr=""/>
          <p:cNvPicPr/>
          <p:nvPr/>
        </p:nvPicPr>
        <p:blipFill>
          <a:blip r:embed="rId3"/>
          <a:stretch/>
        </p:blipFill>
        <p:spPr>
          <a:xfrm>
            <a:off x="1227240" y="1665360"/>
            <a:ext cx="74772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7352" descr=""/>
          <p:cNvPicPr/>
          <p:nvPr/>
        </p:nvPicPr>
        <p:blipFill>
          <a:blip r:embed="rId1"/>
          <a:stretch/>
        </p:blipFill>
        <p:spPr>
          <a:xfrm>
            <a:off x="523800" y="189000"/>
            <a:ext cx="8096400" cy="6324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6732720" y="573264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图片 57354" descr=""/>
          <p:cNvPicPr/>
          <p:nvPr/>
        </p:nvPicPr>
        <p:blipFill>
          <a:blip r:embed="rId3"/>
          <a:stretch/>
        </p:blipFill>
        <p:spPr>
          <a:xfrm>
            <a:off x="1519200" y="1154160"/>
            <a:ext cx="704844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6324" descr=""/>
          <p:cNvPicPr/>
          <p:nvPr/>
        </p:nvPicPr>
        <p:blipFill>
          <a:blip r:embed="rId1"/>
          <a:stretch/>
        </p:blipFill>
        <p:spPr>
          <a:xfrm>
            <a:off x="571680" y="743040"/>
            <a:ext cx="8001000" cy="5371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6659640" y="53006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56326" descr=""/>
          <p:cNvPicPr/>
          <p:nvPr/>
        </p:nvPicPr>
        <p:blipFill>
          <a:blip r:embed="rId3"/>
          <a:stretch/>
        </p:blipFill>
        <p:spPr>
          <a:xfrm>
            <a:off x="2176560" y="1887480"/>
            <a:ext cx="60674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5300" descr=""/>
          <p:cNvPicPr/>
          <p:nvPr/>
        </p:nvPicPr>
        <p:blipFill>
          <a:blip r:embed="rId1"/>
          <a:stretch/>
        </p:blipFill>
        <p:spPr>
          <a:xfrm>
            <a:off x="204840" y="1728720"/>
            <a:ext cx="8734320" cy="340056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55301" descr=""/>
          <p:cNvPicPr/>
          <p:nvPr/>
        </p:nvPicPr>
        <p:blipFill>
          <a:blip r:embed="rId2"/>
          <a:stretch/>
        </p:blipFill>
        <p:spPr>
          <a:xfrm>
            <a:off x="611280" y="2781360"/>
            <a:ext cx="4419360" cy="261936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55302" descr=""/>
          <p:cNvPicPr/>
          <p:nvPr/>
        </p:nvPicPr>
        <p:blipFill>
          <a:blip r:embed="rId3"/>
          <a:stretch/>
        </p:blipFill>
        <p:spPr>
          <a:xfrm>
            <a:off x="5321160" y="2766960"/>
            <a:ext cx="36385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4276" descr=""/>
          <p:cNvPicPr/>
          <p:nvPr/>
        </p:nvPicPr>
        <p:blipFill>
          <a:blip r:embed="rId1"/>
          <a:stretch/>
        </p:blipFill>
        <p:spPr>
          <a:xfrm>
            <a:off x="790560" y="1033560"/>
            <a:ext cx="7562880" cy="479088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54277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504828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2231" descr=""/>
          <p:cNvPicPr/>
          <p:nvPr/>
        </p:nvPicPr>
        <p:blipFill>
          <a:blip r:embed="rId1"/>
          <a:stretch/>
        </p:blipFill>
        <p:spPr>
          <a:xfrm>
            <a:off x="1581120" y="1781280"/>
            <a:ext cx="5981760" cy="329544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52232" descr=""/>
          <p:cNvPicPr/>
          <p:nvPr/>
        </p:nvPicPr>
        <p:blipFill>
          <a:blip r:embed="rId2"/>
          <a:stretch/>
        </p:blipFill>
        <p:spPr>
          <a:xfrm>
            <a:off x="1946160" y="1268280"/>
            <a:ext cx="48578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40:3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